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7.gif" ContentType="image/gif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image5.gif" ContentType="image/gi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.jpeg" ContentType="image/jpeg"/>
  <Override PartName="/ppt/media/image4.gif" ContentType="image/gi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4ACFBE-01EA-4C29-9110-FA5113A1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8C2FD1-1575-4FA5-AE4D-DF393208A4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391583-AE36-40EF-BE73-B6496E06CE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02E96-F820-4A23-8A07-5B3E0BC62B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01533E-5C46-4745-B0C2-9DE80E2E999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7E5992-F9BD-448B-852E-11273653DB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F98C86-37A6-4E2F-9DA0-A0DB68C2B1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66D336-CA34-48AF-88FB-0717B25FD79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B14CF4-6C5E-43D0-B24C-8D0CBEF5B8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F32398-3CAC-4D50-84B1-BC7F3416E7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A83E1E-B006-4032-870B-CE1ED1533B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AF765-E2DE-49F6-B4F8-7AFA423C6D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E1ECF1-EC88-43F3-ADD9-DD3C699FF53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621E61-4210-4048-8BE1-5AC5E880EB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D75-8D46-4F73-8462-70ECD1AE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31C-90D1-47DF-B3F1-4A0F69C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3B8-9099-4237-90FC-CCCCE2FA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C3-1ED7-41E5-903D-20833A18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EA1-126F-4AF7-9C38-F28CAEC0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2AEF-8557-4AB9-AA5D-FA2F0BC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D6A7-A644-498C-980B-FD2699A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5D0-781D-48CB-AD21-11C378B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7350-6A88-431F-A3A5-B53F0A32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C2BA-D3F8-469F-8FB2-A877217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19BB-BD54-429B-93E0-140054B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653-E626-45C2-8308-0914D2B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5C6-2927-49B1-9D3B-3160ED1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1837-1BBF-4AA8-8294-A18AC79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182D-B2F9-4F74-BB2A-E2CDC983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7D2-50A5-44DD-9F40-46271E7E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1AB1-A7DE-4987-A2CD-FACB23EA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408D-83B5-4A84-8B02-A05C131C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901B-8746-4201-BEF0-BDE892E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301F-8D71-43E2-A5C9-4A0E0DD3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D225-1CBD-48AE-9BE4-8832113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B1BC-5363-408E-8082-5E804AE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8DD-B607-4620-B9E1-682BB82F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E29D-1656-44C9-AD1B-8E46C46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7030-BB50-4F34-B007-F610E90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E21A-5DCC-44AA-9B95-9FB7A4A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ABC4-8CC2-4EB2-8B79-22D4F82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D09F-1511-450C-845F-C90D4289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E681-2522-4F5D-AEEE-900B072E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5BF3-3FE3-477C-B98E-F633467F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87D6-DCF3-4903-9041-52C207EF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4C20-D57E-443B-8C3C-EBDFF6D6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6B76-3C35-4469-B50E-E7A48325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83B-7003-4CA0-8A2C-A285EB9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E7EE-D553-4C69-8B4C-9A57B971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9D6B-2CEF-43C5-B922-E12318BA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39F93-727A-47F5-9905-458F2A87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AA02-3544-419E-8642-A2AC9BC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52FB-8AB0-4314-9F21-9102839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0FF6-7283-4196-A3D9-5C453F1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1BAF-053D-45E0-A5B7-44D1393C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862F-A1A6-4DA6-8DED-ADC98D0B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E5C0-97AC-491B-B7E1-D04502DF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443-CD30-4D44-965A-DDE3914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2CB-85A1-4D5E-8B58-310A19A0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9E1-1FB0-40DC-B293-3B89E8F2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EFF-03E8-4465-9A0D-335D64A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D2C-0410-43AA-A3D4-FF89206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27721E-F8A0-44B5-9610-5E4056D058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D64EFB-C75B-4196-9004-9D819AE46A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D3D390-D87B-4DAE-9C82-9BF9CD14153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297DFC-9F50-41F6-9772-A36F660B8A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in/..%5CdanaTemplates%5CRI_Unit_of_Study_7.5.09_1_template93.doc" TargetMode="External"/><Relationship Id="rId2" Type="http://schemas.openxmlformats.org/officeDocument/2006/relationships/hyperlink" Target="file:///tmp/in/..%5CdanaTemplates%5CRhode+Island+Unit+of+Study+Rubric.docx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localhost/C/%5CProgram%20Files%5CMicrosoft%20Office%5CClipart%5CMMedia%5Cclock.avi" TargetMode="External"/><Relationship Id="rId2" Type="http://schemas.microsoft.com/office/2007/relationships/media" Target="file://localhost/C/%5CProgram%20Files%5CMicrosoft%20Office%5CClipart%5CMMedia%5Cclock.avi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uOoqDu2H70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oonsocket.wikispaces.com/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EFKfXiCbL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36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Welcome to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Rhode Island Teachers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echnology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1" descr="logo102"/>
          <p:cNvPicPr/>
          <p:nvPr/>
        </p:nvPicPr>
        <p:blipFill>
          <a:blip r:embed="rId1"/>
          <a:srcRect l="25015" t="15998" r="25995" b="33016"/>
          <a:stretch/>
        </p:blipFill>
        <p:spPr>
          <a:xfrm>
            <a:off x="2438280" y="3200400"/>
            <a:ext cx="3733560" cy="3657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3581280" y="5029200"/>
            <a:ext cx="14475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E2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133720" y="4114800"/>
            <a:ext cx="5028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Model Classroom G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380880" y="380880"/>
            <a:ext cx="8076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Incorporate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Capturerittiwordle.JPG"/>
          <p:cNvPicPr/>
          <p:nvPr/>
        </p:nvPicPr>
        <p:blipFill>
          <a:blip r:embed="rId1"/>
          <a:stretch/>
        </p:blipFill>
        <p:spPr>
          <a:xfrm>
            <a:off x="685800" y="1447920"/>
            <a:ext cx="7972200" cy="525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rittilogo222009.gif"/>
          <p:cNvPicPr/>
          <p:nvPr/>
        </p:nvPicPr>
        <p:blipFill>
          <a:blip r:embed="rId2"/>
          <a:stretch/>
        </p:blipFill>
        <p:spPr>
          <a:xfrm>
            <a:off x="7467480" y="0"/>
            <a:ext cx="1390320" cy="14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What’s in it for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2362320" y="1828800"/>
            <a:ext cx="3962160" cy="3856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rittilogo222009.gif"/>
          <p:cNvPicPr/>
          <p:nvPr/>
        </p:nvPicPr>
        <p:blipFill>
          <a:blip r:embed="rId2"/>
          <a:stretch/>
        </p:blipFill>
        <p:spPr>
          <a:xfrm>
            <a:off x="533520" y="160920"/>
            <a:ext cx="16761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240" cy="60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Equipment &amp; computers for your class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Networking with your</a:t>
            </a:r>
            <a:r>
              <a:rPr b="1" lang="en-US" sz="2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pe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Access to the RI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State</a:t>
            </a: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 RIEPS/Sakai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Multiple opportunities to enhance student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A long dedicated opportunity for a rich professional development experie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2 weeks of fu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3" descr="rittilogo2009.jpg"/>
          <p:cNvPicPr/>
          <p:nvPr/>
        </p:nvPicPr>
        <p:blipFill>
          <a:blip r:embed="rId1"/>
          <a:stretch/>
        </p:blipFill>
        <p:spPr>
          <a:xfrm>
            <a:off x="7238880" y="1066680"/>
            <a:ext cx="1566360" cy="16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Comple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A completed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Bernard MT Condensed"/>
                <a:hlinkClick r:id="rId1"/>
              </a:rPr>
              <a:t>unit template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submitted within the RIEPS/ Sakai  learning si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Bernard MT Condensed"/>
                <a:hlinkClick r:id="rId2"/>
              </a:rPr>
              <a:t>Rubric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Complete Attendance 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66"/>
              </a:buClr>
              <a:buFont typeface="Arial"/>
              <a:buChar char="•"/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Unlimited fu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C:\Users\Susanne Suprock\AppData\Local\Microsoft\Windows\Temporary Internet Files\Content.IE5\33RLQAJ0\MCj04349290000[1].png"/>
          <p:cNvPicPr/>
          <p:nvPr/>
        </p:nvPicPr>
        <p:blipFill>
          <a:blip r:embed="rId3"/>
          <a:stretch/>
        </p:blipFill>
        <p:spPr>
          <a:xfrm>
            <a:off x="5867280" y="2514600"/>
            <a:ext cx="2818800" cy="281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rittilogo222009.gif"/>
          <p:cNvPicPr/>
          <p:nvPr/>
        </p:nvPicPr>
        <p:blipFill>
          <a:blip r:embed="rId4"/>
          <a:stretch/>
        </p:blipFill>
        <p:spPr>
          <a:xfrm>
            <a:off x="304920" y="0"/>
            <a:ext cx="1390320" cy="14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90"/>
                </a:solidFill>
                <a:latin typeface="Bernard MT Condensed"/>
              </a:rPr>
              <a:t>General Schedu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8:30 – 9:00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Arrive, Sign in Morn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9:00 – 12:00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Curriculum or Tech Time (BRE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12:00 – 12:30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12:30 – 2:00  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Curriculum or Tech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2:00 – 2:30      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Bernard MT Condensed"/>
              </a:rPr>
              <a:t>Reflection and Wrap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477120" y="3352680"/>
            <a:ext cx="199980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riverdaughter.files.wordpress.com/2009/04/the-scream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80"/>
            <a:ext cx="4559040" cy="68385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3048120" y="304920"/>
            <a:ext cx="3885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YOU WILL SURV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rittilogo2009.jpg"/>
          <p:cNvPicPr/>
          <p:nvPr/>
        </p:nvPicPr>
        <p:blipFill>
          <a:blip r:embed="rId3"/>
          <a:stretch/>
        </p:blipFill>
        <p:spPr>
          <a:xfrm>
            <a:off x="4800600" y="2057400"/>
            <a:ext cx="105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90"/>
                </a:solidFill>
                <a:latin typeface="Bernard MT Condensed"/>
              </a:rPr>
              <a:t>Meet Your Train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Tonya Curt-Hoard</a:t>
            </a: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Nancy La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Susanne Sup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Donna Hay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0560" y="3394080"/>
            <a:ext cx="2773080" cy="346356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240" cy="59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Are your students digital learner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logo102">
            <a:hlinkClick r:id="rId1"/>
          </p:cNvPr>
          <p:cNvPicPr/>
          <p:nvPr/>
        </p:nvPicPr>
        <p:blipFill>
          <a:blip r:embed="rId2"/>
          <a:srcRect l="25015" t="15995" r="25996" b="33013"/>
          <a:stretch/>
        </p:blipFill>
        <p:spPr>
          <a:xfrm>
            <a:off x="2209680" y="1752480"/>
            <a:ext cx="38858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Participant Expectation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Create a Curriculum Unit of Study or lessons within a Unit of Stud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Susanne Suprock\AppData\Local\Microsoft\Windows\Temporary Internet Files\Content.IE5\56BA499I\MCj04151440000[1].wmf"/>
          <p:cNvPicPr/>
          <p:nvPr/>
        </p:nvPicPr>
        <p:blipFill>
          <a:blip r:embed="rId1"/>
          <a:stretch/>
        </p:blipFill>
        <p:spPr>
          <a:xfrm rot="21111000">
            <a:off x="2187720" y="3392280"/>
            <a:ext cx="1855440" cy="3047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rittilogo222009.gif"/>
          <p:cNvPicPr/>
          <p:nvPr/>
        </p:nvPicPr>
        <p:blipFill>
          <a:blip r:embed="rId2"/>
          <a:stretch/>
        </p:blipFill>
        <p:spPr>
          <a:xfrm>
            <a:off x="5334120" y="3809880"/>
            <a:ext cx="110160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That embeds student centered technology component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rittilogo222009.gif"/>
          <p:cNvPicPr/>
          <p:nvPr/>
        </p:nvPicPr>
        <p:blipFill>
          <a:blip r:embed="rId1"/>
          <a:stretch/>
        </p:blipFill>
        <p:spPr>
          <a:xfrm>
            <a:off x="152280" y="166320"/>
            <a:ext cx="1523520" cy="1580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Susanne Suprock\AppData\Local\Microsoft\Windows\Temporary Internet Files\Content.IE5\UQJ25JLL\MMj02867790000[1].gif"/>
          <p:cNvPicPr/>
          <p:nvPr/>
        </p:nvPicPr>
        <p:blipFill>
          <a:blip r:embed="rId2"/>
          <a:stretch/>
        </p:blipFill>
        <p:spPr>
          <a:xfrm>
            <a:off x="5181480" y="3935880"/>
            <a:ext cx="2819160" cy="2492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Susanne Suprock\AppData\Local\Microsoft\Windows\Temporary Internet Files\Content.IE5\UQJ25JLL\MMj03368670000[1].gif"/>
          <p:cNvPicPr/>
          <p:nvPr/>
        </p:nvPicPr>
        <p:blipFill>
          <a:blip r:embed="rId3"/>
          <a:stretch/>
        </p:blipFill>
        <p:spPr>
          <a:xfrm>
            <a:off x="533520" y="3591720"/>
            <a:ext cx="4038120" cy="16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240" cy="52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hat encompasses valid instructional strategies and resear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3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DOK Levels of 3 &amp;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The principals of 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72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Bernard MT Condensed"/>
              </a:rPr>
              <a:t>Differentiated instr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Users\Susanne Suprock\AppData\Local\Microsoft\Windows\Temporary Internet Files\Content.IE5\ZRWXR371\MMj03157690000[1].gif"/>
          <p:cNvPicPr/>
          <p:nvPr/>
        </p:nvPicPr>
        <p:blipFill>
          <a:blip r:embed="rId1"/>
          <a:stretch/>
        </p:blipFill>
        <p:spPr>
          <a:xfrm>
            <a:off x="3352680" y="2133720"/>
            <a:ext cx="1980720" cy="188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rittilogo222009.gif"/>
          <p:cNvPicPr/>
          <p:nvPr/>
        </p:nvPicPr>
        <p:blipFill>
          <a:blip r:embed="rId2"/>
          <a:stretch/>
        </p:blipFill>
        <p:spPr>
          <a:xfrm>
            <a:off x="228600" y="0"/>
            <a:ext cx="949680" cy="9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24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Discover how technology can transform your classro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teach_your_children_well.jpg"/>
          <p:cNvPicPr/>
          <p:nvPr/>
        </p:nvPicPr>
        <p:blipFill>
          <a:blip r:embed="rId1"/>
          <a:stretch/>
        </p:blipFill>
        <p:spPr>
          <a:xfrm>
            <a:off x="2286000" y="2743200"/>
            <a:ext cx="489564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8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90"/>
                </a:solidFill>
                <a:latin typeface="Bernard MT Condensed"/>
              </a:rPr>
              <a:t>How do we use technology appropriately to improve student performance in standards-based classroo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Bernard MT Condensed"/>
              </a:rPr>
              <a:t>To do this, you will create lessons within your unit plan that embed technology for student lea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http://pcsedu.com/blog/wp-includes/images/pcsads/DigitalMediaAds.jpg"/>
          <p:cNvPicPr/>
          <p:nvPr/>
        </p:nvPicPr>
        <p:blipFill>
          <a:blip r:embed="rId1"/>
          <a:stretch/>
        </p:blipFill>
        <p:spPr>
          <a:xfrm>
            <a:off x="2362320" y="2895480"/>
            <a:ext cx="3657240" cy="3657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rittilogo222009.gif"/>
          <p:cNvPicPr/>
          <p:nvPr/>
        </p:nvPicPr>
        <p:blipFill>
          <a:blip r:embed="rId2"/>
          <a:stretch/>
        </p:blipFill>
        <p:spPr>
          <a:xfrm>
            <a:off x="7924680" y="0"/>
            <a:ext cx="949680" cy="9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2895480" y="152280"/>
            <a:ext cx="2285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000066"/>
                </a:solidFill>
                <a:latin typeface="Bernard MT Condensed"/>
              </a:rPr>
              <a:t>H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Users\Susanne Suprock\AppData\Local\Microsoft\Windows\Temporary Internet Files\Content.IE5\R86053WR\MCPE06547_0000[1].wmf"/>
          <p:cNvPicPr/>
          <p:nvPr/>
        </p:nvPicPr>
        <p:blipFill>
          <a:blip r:embed="rId1"/>
          <a:stretch/>
        </p:blipFill>
        <p:spPr>
          <a:xfrm>
            <a:off x="2514600" y="914400"/>
            <a:ext cx="2631960" cy="4876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609480" y="1143000"/>
            <a:ext cx="1904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380880" y="838080"/>
            <a:ext cx="1904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D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 </a:t>
            </a: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3 &amp;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4606920" y="3505320"/>
            <a:ext cx="4536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The Principal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10320" y="5793840"/>
            <a:ext cx="6400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Differentiated Instr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rittilogo222009.gif"/>
          <p:cNvPicPr/>
          <p:nvPr/>
        </p:nvPicPr>
        <p:blipFill>
          <a:blip r:embed="rId2"/>
          <a:stretch/>
        </p:blipFill>
        <p:spPr>
          <a:xfrm>
            <a:off x="7391520" y="0"/>
            <a:ext cx="1390320" cy="1442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5105520" y="1371600"/>
            <a:ext cx="4038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66"/>
                </a:solidFill>
                <a:latin typeface="Bernard MT Condensed"/>
              </a:rPr>
              <a:t>Applied Learn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6858000" y="5029200"/>
            <a:ext cx="2057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0066"/>
                </a:solidFill>
                <a:latin typeface="Bernard MT Condensed"/>
              </a:rPr>
              <a:t>GLE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28600" y="3581280"/>
            <a:ext cx="2133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66"/>
                </a:solidFill>
                <a:latin typeface="Bernard MT Condensed"/>
              </a:rPr>
              <a:t>Blo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  <Words>301</Words>
  <Paragraphs>66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2:01:29Z</dcterms:created>
  <dc:creator>Susanne Suprock</dc:creator>
  <dc:description/>
  <dc:language>en-US</dc:language>
  <cp:lastModifiedBy>ritti</cp:lastModifiedBy>
  <dcterms:modified xsi:type="dcterms:W3CDTF">2010-07-20T02:02:54Z</dcterms:modified>
  <cp:revision>51</cp:revision>
  <dc:subject/>
  <dc:title>Welcome to Rhode Island Teachers  &amp;  Technology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3</vt:r8>
  </property>
  <property fmtid="{D5CDD505-2E9C-101B-9397-08002B2CF9AE}" pid="4" name="PresentationFormat">
    <vt:lpwstr>On-screen Show (4:3)</vt:lpwstr>
  </property>
  <property fmtid="{D5CDD505-2E9C-101B-9397-08002B2CF9AE}" pid="5" name="Slides">
    <vt:r8>16</vt:r8>
  </property>
</Properties>
</file>